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FBD-D7EB-4D19-9FB8-3D07DC19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1C3-8A07-41BB-A08D-102D044C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7DE-1E87-46CB-968A-BFD77F06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03F-8B3B-4317-BE39-EA66F5C6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501-1C0E-4605-9043-35742E5B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4BF-C1A8-4C5F-AB04-E80F44A3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B9AE-9085-4C4A-9DEC-F50DF8D2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2923-2005-492C-A0D6-E0C0DDBB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FF2-5F11-4381-872C-5F11A3B2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B2E-2AEE-492D-96AF-69880EFD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FCF-992C-4DED-A96B-7BBE2BEB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AB7-F04E-49A7-BB60-611AF71F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8A6C-B590-4B5D-9691-BF0D399BF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0920" y="260280"/>
            <a:ext cx="815328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dnesday 1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Septem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e: Wednesday 8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pt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 how you gathered information about your hockey performance in hockey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why these methods were valid and appropriate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-2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St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ree types of fit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ree aspects of mental fit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ree reasons CRE and SPEED are important to a midfield player in hock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p types of fi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methods of gathering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fitness -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 the following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inning head space” Psychology in 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of gatherin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ways we gather information in hockey.  What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be our starting point for gathering information?  Give reasons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of gatherin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ll methods of gathering information you must know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it i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t looks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es it start/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it is Valid/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servation Sched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are we trying to gain from an match analysis sched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is information be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gain information within the performance as well as ou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ndardised tes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sed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an be compared to national 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re-test at a later stage using the sam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ree tests we will use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etre shuttle ru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inoi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etre sprin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ndardised tes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your group devise a poster showing all aspects of your method and why it is appropri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ou have 15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3:18:23Z</dcterms:created>
  <dc:creator>hamiltonp</dc:creator>
  <dc:description/>
  <dc:language>en-US</dc:language>
  <cp:lastModifiedBy>hamiltonp</cp:lastModifiedBy>
  <dcterms:modified xsi:type="dcterms:W3CDTF">2010-08-31T07:52:20Z</dcterms:modified>
  <cp:revision>3</cp:revision>
  <dc:subject/>
  <dc:title>Lesson 2</dc:title>
</cp:coreProperties>
</file>